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dt" idx="2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53BA-E41C-4942-9966-5B303F49561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move the slid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ftr" idx="2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 type="sldNum" idx="2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2AC3-FDBB-40E2-A910-367C25F07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0146-04AC-4514-88BB-917E3E423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CCE1-C376-4F48-A2D8-0231E007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E1C1-7DE3-434B-8C86-66F5F1AC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ADFDD-F47F-448A-BE31-D43DABE3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CF981-A9DD-472C-817C-972EDC76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FEACB-C866-41DA-87E6-AAEBE35B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B55E28-9371-4829-A75B-CD9E0495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134DD8-CAF8-4470-AA76-A5A7E700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140F3E-6EC5-48D4-A2DC-346EA393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984F93-0EE7-41CE-8473-760E8FAD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F8A95-7A00-4416-8897-50496861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BB680-7FCB-4ACF-85CF-FEB5BC70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C401-B925-4260-ACA7-A6174982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F8A-153A-41D9-AA58-174D5331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5EE9-8ADB-4387-A52C-9C9152D5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CD5-57A0-4F56-9717-1340D030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23B8C0-5645-4ADC-9377-20199DE7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C1DB78-D142-4487-8F5C-B21E70C3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17A02E-8EB5-4C9A-AD03-E21E0CB3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657-0E43-4B8F-9986-81A0F6F8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5BB9B2-CF54-4CFE-962F-132FF426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354577-4566-48F6-8CE1-10952CE9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4AC427-D393-4721-AAB7-1C5D8F32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52E02F-A649-411E-8D1B-67EE5B71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03B5EB-771F-47CE-B2B5-A6E0760C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A98A07-3506-4F70-BD86-2A8DE871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6F763A-87BA-43B9-832A-5DB13B96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7B3D91-0E0B-4F07-BFD5-6D2954BB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04E775-B372-4CB7-996D-8B1F3CA9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C1D936-AC62-41C5-A8D2-D0C8A6C1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73FA-1EC4-439D-AA9A-C7FE193E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67BAB6-1F02-4CC4-8E22-3156DD80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5FA0F2-A6C4-4142-862A-81AF064B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230F24-B122-4B5A-B384-4AF965E0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777F36-5F9D-4210-B0DE-75872172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CCD665-0472-4EA3-94B0-954117A9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7D036C-4093-4086-964C-2F8C56CA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249B23-B45B-4EDC-B36F-D1E376D8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E93DF7-73EA-4034-9498-7565FDEA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41FDFB-DDEF-42A5-8594-7CC37D23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77A185-3CD2-48E9-AC8A-E90C2848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A88-CB35-4C25-AFFB-0272FCF0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FC0DA0-387E-4617-ACDB-F53AFAF0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4EFAA3-D24C-4625-8CCD-68C41298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775AD9-514E-4EFA-B322-B22BAA5E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7A9A00-959A-4188-8DE9-39935D54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E74CB0-9A0E-47C6-9850-D1132342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26A6B8-6FD5-46F1-BDD0-50B1E963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CCA285-4797-4873-B3A2-E6E29CA7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71B095-3E32-4FB0-B883-6433E314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A3F911-D4D6-4250-97FA-CCD4D904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217BF1-85B7-4CD8-B28E-B5388132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DA6B-87F0-48E9-A870-197939A7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2434ED-5CC9-441E-9CC8-23410E12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D96EAF-7F6D-451B-865C-ACBD2794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EBC433-86D0-42DF-B508-B4D4FD04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681E12-3B5B-4525-B7FB-ACDF0DB9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1DA6AF-6CEC-4B90-A8DD-C6D08D3F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FC060F-FCCB-4F86-BB9C-C8F470E2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9253F7-7EFD-40D3-8A19-E08B64A5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0338EA-52EB-437F-8938-F282A660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0839F5-B10D-4AE4-A5C6-6C48E65D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5CB799-5F09-4A67-BC23-8DDA92B6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4DF-9962-4558-A78E-FE974BB6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463432-43D2-494B-AACB-0EFE0734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D045E4-E55C-47E6-8FC9-F272A43C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20284E-FD7C-4D36-A5CF-C6DC2329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31A5B7-7347-42F1-B4A5-ED6EF177A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6C2ED6-87D3-49C9-8E35-B357F07F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DB6B27-83C7-4DD6-975E-E6C5AB21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6BDC6B-9312-4020-848B-8818C94F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E5B11F-C872-43B7-80B5-7A7EABA6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D9EBB1-E97C-4EFC-8C1B-88C77F4C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65BB74-9069-41DC-ACF0-0F10D3E6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EEF1-897B-49EF-BEA8-36352022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98E171-2F64-489B-90C3-6E202D63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3517E8-C11F-4A0B-A597-792CBE81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5A6C25-FCDB-4CCF-9C9E-3CB62313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79D57E-3631-4CA9-910E-D3F6B249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5429C6-600A-4BC3-8A15-D77A46D6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79FF7B-57C4-4F2C-857E-19F85E4D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D2754E-AA22-4DB7-A829-1F865743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98A2D-A306-4AC9-A0FB-99A0E354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1F9E3-44E7-40AA-B364-288F88C7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69B6B3-4692-437A-AE63-C6380785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C4D2-4B4C-4197-9631-391BE6B994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AB98-066F-4759-87DA-4F11154482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688C-8EBE-462B-87E5-6AE2B2DACA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1397-0126-44DB-A98B-E03537BA2823}" type="slidenum">
              <a:rPr b="0" lang="en-US" sz="1200" spc="-1" strike="noStrike">
                <a:solidFill>
                  <a:srgbClr val="19443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36FC-2726-407E-86D5-BF6B309860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7250-675B-4B59-BFD2-E2F20DC2DE57}" type="slidenum">
              <a:rPr b="0" lang="en-US" sz="1200" spc="-1" strike="noStrike">
                <a:solidFill>
                  <a:srgbClr val="19443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4B23-52C4-433D-8430-5066A6B198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Book Antiqua"/>
              </a:rPr>
              <a:t>What the routines ar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0520" y="1904760"/>
            <a:ext cx="81486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Factor Label Friday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13960" indent="-488160">
              <a:spcBef>
                <a:spcPts val="601"/>
              </a:spcBef>
              <a:buClr>
                <a:srgbClr val="fbf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dab"/>
                </a:solidFill>
                <a:latin typeface="Book Antiqua"/>
              </a:rPr>
              <a:t>Weekly quizz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8520" indent="-488520"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Current Events Research Article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13960" indent="-488160">
              <a:spcBef>
                <a:spcPts val="601"/>
              </a:spcBef>
              <a:buClr>
                <a:srgbClr val="fbf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dab"/>
                </a:solidFill>
                <a:latin typeface="Book Antiqua"/>
              </a:rPr>
              <a:t>Bi-weekly (every TWO week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8520" indent="-488520"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Chapter Concepts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13960" indent="-488160">
              <a:spcBef>
                <a:spcPts val="601"/>
              </a:spcBef>
              <a:buClr>
                <a:srgbClr val="fbf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dab"/>
                </a:solidFill>
                <a:latin typeface="Book Antiqua"/>
              </a:rPr>
              <a:t>For every chap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8520" indent="-488520"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TED Talk Discussion Leader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813960" indent="-488160">
              <a:spcBef>
                <a:spcPts val="601"/>
              </a:spcBef>
              <a:buClr>
                <a:srgbClr val="fbf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dab"/>
                </a:solidFill>
                <a:latin typeface="Book Antiqua"/>
              </a:rPr>
              <a:t>O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4640" y="2236680"/>
            <a:ext cx="7612200" cy="13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Book Antiqua"/>
              </a:rPr>
              <a:t>2. Environmental Literacy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64640" y="3617640"/>
            <a:ext cx="76122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4431"/>
                </a:solidFill>
                <a:latin typeface="Book Antiqua"/>
              </a:rPr>
              <a:t>(Biweekly: every TWO week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Book Antiqua"/>
              </a:rPr>
              <a:t>Environmental Literacy</a:t>
            </a:r>
            <a:br>
              <a:rPr sz="4800"/>
            </a:br>
            <a:r>
              <a:rPr b="1" lang="en-US" sz="4800" spc="-1" strike="noStrike">
                <a:solidFill>
                  <a:srgbClr val="194431"/>
                </a:solidFill>
                <a:latin typeface="Book Antiqua"/>
              </a:rPr>
              <a:t>PURPOSE: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 Antiqua"/>
              </a:rPr>
              <a:t>Research &amp; make connections to current event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Book Antiqua"/>
              </a:rPr>
              <a:t>Within the last 2 months</a:t>
            </a:r>
            <a:endParaRPr b="0" lang="en-US" sz="2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 Antiqua"/>
              </a:rPr>
              <a:t>Learn what topics excite and interest you 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 Antiqua"/>
              </a:rPr>
              <a:t>Increase our content diversity 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 Antiqua"/>
              </a:rPr>
              <a:t>Practice critical thinking skills 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 Antiqua"/>
              </a:rPr>
              <a:t>Explore resources available to you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 Antiqua"/>
              </a:rPr>
              <a:t>Become an expert &amp; share your knowledge as a leader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Book Antiqua"/>
              </a:rPr>
              <a:t>Environmental Literacy</a:t>
            </a:r>
            <a:br>
              <a:rPr sz="4800"/>
            </a:br>
            <a:r>
              <a:rPr b="1" lang="en-US" sz="4800" spc="-1" strike="noStrike">
                <a:solidFill>
                  <a:srgbClr val="194431"/>
                </a:solidFill>
                <a:latin typeface="Book Antiqua"/>
              </a:rPr>
              <a:t>METHOD: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18284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Explore an approved website &amp; pick a topic that is related (even tangentially) to EnviSci.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Summarize the article and evaluate it criticall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Prepare and give a short(5 to 10 minute) multimedia presentation to your clas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25800" indent="-3258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Post your summary on our class wiki for others to learn from &amp; comment on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Book Antiqua"/>
              </a:rPr>
              <a:t>Approved Sourc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BBC  Science &amp; Environment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ff"/>
                </a:solidFill>
                <a:uFillTx/>
                <a:latin typeface="Book Antiqua"/>
              </a:rPr>
              <a:t>http://www.bbc.co.uk/news/science_and_environment/</a:t>
            </a:r>
            <a:r>
              <a:rPr b="1" lang="en-US" sz="23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Environmental News Network: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ff"/>
                </a:solidFill>
                <a:uFillTx/>
                <a:latin typeface="Book Antiqua"/>
              </a:rPr>
              <a:t>http://www.enn.com/</a:t>
            </a:r>
            <a:endParaRPr b="0" lang="en-US" sz="2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National Geographic: Environment News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ff"/>
                </a:solidFill>
                <a:uFillTx/>
                <a:latin typeface="Book Antiqua"/>
              </a:rPr>
              <a:t>http://news.nationalgeographic.com/news/environment.html</a:t>
            </a:r>
            <a:endParaRPr b="0" lang="en-US" sz="23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Emerging Nanotechnologies (Ethics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http://www.nanotechproject.org/topics/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87631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Book Antiqua"/>
              </a:rPr>
              <a:t>Environmental Literacy</a:t>
            </a:r>
            <a:br>
              <a:rPr sz="4800"/>
            </a:br>
            <a:r>
              <a:rPr b="1" lang="en-US" sz="4000" spc="-1" strike="noStrike">
                <a:solidFill>
                  <a:srgbClr val="194431"/>
                </a:solidFill>
                <a:latin typeface="Book Antiqua"/>
              </a:rPr>
              <a:t>TIMELINE &amp; REQUIREMENTS:</a:t>
            </a:r>
            <a:endParaRPr b="0" lang="en-US" sz="40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520" y="19810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Every studen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presents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&amp;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comments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on a peer’s presentati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Book Antiqua"/>
              </a:rPr>
              <a:t>every two weeks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014120" indent="-342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wo students present each da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You need to post your summary within 24 hours on the websit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Bonus points if it’s relevant to the present unit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Optional extension for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Book Antiqua"/>
              </a:rPr>
              <a:t>publication in a local newspaper</a:t>
            </a:r>
            <a:r>
              <a:rPr b="1" lang="en-US" sz="3000" spc="-1" strike="noStrike">
                <a:solidFill>
                  <a:srgbClr val="ffffff"/>
                </a:solidFill>
                <a:latin typeface="Book Antiqua"/>
              </a:rPr>
              <a:t>; more details later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79200"/>
            <a:ext cx="87631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Book Antiqua"/>
              </a:rPr>
              <a:t>Environmental Literacy</a:t>
            </a:r>
            <a:br>
              <a:rPr sz="4800"/>
            </a:br>
            <a:r>
              <a:rPr b="1" lang="en-US" sz="4400" spc="-1" strike="noStrike">
                <a:solidFill>
                  <a:srgbClr val="194431"/>
                </a:solidFill>
                <a:latin typeface="Book Antiqua"/>
              </a:rPr>
              <a:t>Minimum </a:t>
            </a:r>
            <a:r>
              <a:rPr b="1" lang="en-US" sz="3600" spc="-1" strike="noStrike">
                <a:solidFill>
                  <a:srgbClr val="194431"/>
                </a:solidFill>
                <a:latin typeface="Book Antiqua"/>
              </a:rPr>
              <a:t>SLIDE REQUIREMENTS:</a:t>
            </a:r>
            <a:endParaRPr b="0" lang="en-US" sz="36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0520" y="19810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Slide 1: Introductory slide: your name, the article’s citation, headline &amp; date,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Slides 2: Rationale: Why you picked this topic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Slides 3-4: Summarize the artic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Slide 5: Relation to  Environmental Scienc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Slide 6: Closure/Extens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9:21:40Z</dcterms:created>
  <dc:creator>Preferred Customer</dc:creator>
  <dc:description/>
  <dc:language>en-US</dc:language>
  <cp:lastModifiedBy>Johnson</cp:lastModifiedBy>
  <cp:lastPrinted>2012-09-25T19:36:00Z</cp:lastPrinted>
  <dcterms:modified xsi:type="dcterms:W3CDTF">2012-09-25T19:36:10Z</dcterms:modified>
  <cp:revision>41</cp:revision>
  <dc:subject/>
  <dc:title>How to do the Graphic Organizer for Dr. Griffith</dc:title>
</cp:coreProperties>
</file>